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E74-B631-4074-9C15-04641EDF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357-58AA-47DA-A124-01A21707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0EF-4216-4989-AEA2-B35E96EE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256-C876-45A3-9EE5-22EF687F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EA3-2B2E-4C92-889E-488A9289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EE1-F1D0-44B6-8C1A-9734750D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068-AD4D-4347-94CF-3DC28D43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178-A2C8-40DE-BFCB-35DE20F6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B67-9FAC-467B-8E60-12D72A50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99A-0A3F-4590-89F2-7A51D0BE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C35-E6CE-4AAE-979F-E3AB724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CB8-8A08-41FC-8BE9-BECA40E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B4E0-FCD5-4D28-8548-F22507661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apeldeparede.fotosdahora.com.br/papeldeparede/mostra_papeldeparede.asp?cod=3675&amp;titulo=montanhas_dourada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r.dada.net/image/17161402/spouting-horn-blowhole-kauai-hawaii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853920" y="0"/>
            <a:ext cx="9997920" cy="7342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ANÇÃO DE EXILIO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onçalves Di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ha terra tem palmeira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de canta o Sabia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ves, que aqui gorjeiam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ão gorjeiam como lá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lique para ampliar montanhas dourad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68360" y="-243000"/>
            <a:ext cx="9144000" cy="6669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20280"/>
            <a:ext cx="6400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so céu tem mais estrel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sas várzeas têm mais flo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sos bosques têm mais vi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sa vida mais am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 "/>
          <p:cNvPicPr/>
          <p:nvPr/>
        </p:nvPicPr>
        <p:blipFill>
          <a:blip r:embed="rId1"/>
          <a:stretch/>
        </p:blipFill>
        <p:spPr>
          <a:xfrm>
            <a:off x="0" y="-581040"/>
            <a:ext cx="9144000" cy="743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Em cismar, sozinho, á noi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Mais prazer eu encontro lá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Minha terra tem palmeira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Onde canta o sabi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weeping willow the netherlands"/>
          <p:cNvPicPr/>
          <p:nvPr/>
        </p:nvPicPr>
        <p:blipFill>
          <a:blip r:embed="rId1"/>
          <a:stretch/>
        </p:blipFill>
        <p:spPr>
          <a:xfrm>
            <a:off x="-468360" y="11160"/>
            <a:ext cx="12528720" cy="7854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ha terra tem primo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tais não encontro eu cá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 cismar sozinho, à no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prazer encontro eu lá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ha tem palmeir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de canta o sabi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sailing the open wa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698400"/>
            <a:ext cx="12168360" cy="8094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71280" y="404640"/>
            <a:ext cx="70484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Não permita Deus que eu Morr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Sem que eu volto para lá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Sem que desfrute os prim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Que não encontro por cá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Sem qu´inda aviste as palmeira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Times New Roman"/>
              </a:rPr>
              <a:t>Onde canta o sabiá</a:t>
            </a:r>
            <a:r>
              <a:rPr b="1" i="1" lang="pt-BR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fessora Dilza Nato Gonçalves Reginato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ola Estadual Senador Filinto Müller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urso CBIV – 2009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rientação: Profª Mar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3:55:41Z</dcterms:created>
  <dc:creator>ESCOLA FILINTO</dc:creator>
  <dc:description/>
  <dc:language>en-US</dc:language>
  <cp:lastModifiedBy>Escola</cp:lastModifiedBy>
  <dcterms:modified xsi:type="dcterms:W3CDTF">2009-06-25T17:49:17Z</dcterms:modified>
  <cp:revision>3</cp:revision>
  <dc:subject/>
  <dc:title>CANÇÃO DE EXILIO  Gonçalves Dias </dc:title>
</cp:coreProperties>
</file>